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64C7-BCA4-4B3C-8D08-B918951B9C4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34F9-D220-45CA-BA9F-5CEE9AE48B94}"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0824-104B-464A-9B68-429AF9F7902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F521-5F32-4269-A317-BF86FFD1EF2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A59D-49F0-4440-A778-DB59239C3A3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26A4-5642-4ECE-8FC8-611FCD46FD6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E2C1C-5418-490D-9753-4BEDB53EC84E}"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7AE9-21F7-4EFF-AC85-32B83E21BAC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5A5B-7F18-4F31-AF07-C4AFF9B01A8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3F003-4913-4134-8C61-C1D8501DA4EB}"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AD1D-423A-4609-B149-036B74A2834D}"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571D-0F35-4652-8204-E89DE148F92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6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C56EA-DCF1-4233-BAAF-64EA9C16335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DEE6-A40F-4FA2-A16A-113A2B8C880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6F54E-358F-4177-968A-80FA0890997B}"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D5112-9802-48C8-9586-7BE3D37321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6A32E-4700-4311-821A-56BB97CC7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175B7B-A195-4B36-A1BD-1075FEB74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633AC-02E6-4E0E-BDFF-E4D021D77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B6CC3-0ED1-4DD1-AAC0-716C7F3C6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A3DA1-9E6A-42B9-8A17-4846A5877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4EECC-35A5-4FBF-9EF3-2A22A987C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AE687-1A0F-44DC-918D-C45A5A99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EE4F-1A0B-4577-BE85-585AC994F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10FB2-68D6-4285-BE80-7C57F0F2B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F11BA-6739-4F71-870A-F8CBF52BF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725A-3D03-4477-9464-28D9740C0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E27EC-24A6-47FE-A9DA-5EF64204A67A}" type="datetime">
              <a:rPr b="0" lang="tr-TR"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64579-B382-4171-A6DD-8989C10A14EA}"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12640"/>
            <a:ext cx="7851600" cy="41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 NEDİR?                              DİLLERİN DOĞUŞU,</a:t>
            </a:r>
            <a:br>
              <a:rPr sz="3600"/>
            </a:br>
            <a:r>
              <a:rPr b="1" lang="en-US" sz="3600" spc="-1" strike="noStrike">
                <a:solidFill>
                  <a:srgbClr val="000000"/>
                </a:solidFill>
                <a:latin typeface="Times New Roman"/>
                <a:ea typeface="Times New Roman"/>
              </a:rPr>
              <a:t>D</a:t>
            </a:r>
            <a:r>
              <a:rPr b="1" lang="tr-TR" sz="3600" spc="-1" strike="noStrike">
                <a:solidFill>
                  <a:srgbClr val="000000"/>
                </a:solidFill>
                <a:latin typeface="Times New Roman"/>
                <a:ea typeface="Times New Roman"/>
              </a:rPr>
              <a:t>İLİN SOSYAL BİR KURUM OLARAK MİLLET HAYATINDAKİ YERİ VE ÖNEMİ, DİL – KÜLTÜR İLİŞKİS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549360"/>
            <a:ext cx="8142120" cy="5759280"/>
          </a:xfrm>
          <a:prstGeom prst="rect">
            <a:avLst/>
          </a:prstGeom>
          <a:noFill/>
          <a:ln w="0">
            <a:noFill/>
          </a:ln>
        </p:spPr>
        <p:txBody>
          <a:bodyPr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in ilk gereci sestir ve dil öncelikle sözlü olarak gerçekleşir. İlk olarak sözlü  dili  ediniriz;  yazı  daha  sonra  kazanılan  bir beceridir.   Yazılmayan dillerin konuşurları ve okur yazar olmayanlar da ana dillerini doğru biçimde kullanabilirler ve gelecek  nesillere doğru  olarak  aktarabilirler.  Nitekim yazının  olmadığı çağlarda yaşayanlarla, halen okur yazar olmayanlar bunun örneğini oluştururlar, Her dilin kendine has bir ses yapısı vardır. Toplumsal ve tarihî etkenler, coğrafî şartlar \ ses yapısının farklılaşmasında etkilidir.</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476280"/>
            <a:ext cx="7854840" cy="590544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sosyal bir kurum olup aynı zamanda sosyalleşme aracıdır. Kişilerin üstünde, bütün bir toplumun malıdır. Toplumun en büyük dayanağı olup onu tutar. Bu bakımdan dil, milleti oluşturan unsurların başında yer alır. Bir milleti bazen tek başına ayakta tutar, millî benliği koruyarak, onu yok olmaktan, başkalaşmaktan kurtar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nesiller arasında kültür taşıyıcısı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71280" y="368280"/>
            <a:ext cx="7497720" cy="579744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DİLLERİN DOĞUŞU</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yeryüzünde çok sayıda dil vardır. Fakat bu dillerin ilk defa ne zaman ve nerede ortaya çıktığı belli değildir. Bu yüzden dillerin doğuşu konusunda çeşitli görüşler mevcuttur.</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kısım dilbilimcilere göre dil, insan varlığı ile birlikte ortaya çıkmıştır. İnsan varlığının yeryüzünde ne zaman başladığı ve ilk önce hangi dil veya dilleri konuştuğu hakkında elde belgeye dayanan bilgiler yoktur. İnsanların farklı diller konuştuğunu MÖ. 4 binli yıllardan bu yana, bize ulaşan değişik milletlere ait belgelerden anlamaktayız.</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B727-8332-4E5B-815E-101795BF5E47}"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in ortaya çıkışı konusundaki görüşler iki noktada toplanabil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tek kaynaktan çıkmış, diğer diller o ana dilden yayılmışt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yeryüzünde birden çok kaynaktan, birden çok merkezde ortaya çıkmış bu şekilde farklı diller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A4EB-AABD-4A87-A0C8-A948608A335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Dillerin Tek Kaynaktan Çıkması (Monojenist) Görüşü</a:t>
            </a:r>
            <a:br>
              <a:rPr sz="3600"/>
            </a:br>
            <a:endParaRPr b="0" lang="en-US" sz="3600" spc="-1" strike="noStrike">
              <a:solidFill>
                <a:srgbClr val="000000"/>
              </a:solidFill>
              <a:latin typeface="Calibri"/>
            </a:endParaRPr>
          </a:p>
        </p:txBody>
      </p:sp>
      <p:sp>
        <p:nvSpPr>
          <p:cNvPr id="6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elişmiş şuurlu insan seviyesine yükselen insanoğlu varlıkları işaretlerle anlatma döneminden sonra onları seslerle karşılama aşamasına gelmiş, kendisinde bulunan dil yeteneğini, konuşma ve işitme organlarını kullanarak yine sesleri taklit ederek yansıma yoluyla varlıkları karşılayan ilk kelimeleri ortaya çıkarmaya başlamış, daha sonra da dil kanunları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7B5E-DEE3-4DA1-ACD6-C7455D71A5B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71280" y="1413000"/>
            <a:ext cx="7497720" cy="475272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Dini kaynaklardan gelen bilgilere göre diller ilk yaratılan insanla,  Adem peygamberle başlamıştır:</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Allah Hz. Adem’e bütün adları öğretmişti...”(Bakara suresi,31.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Rahman olan Allah insanı yaratmış, ona beyan kabiliyetini vermiş, Kur’an’ı öğretmiştir.” (Rahman Suresi1-4. 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p:txBody>
      </p:sp>
      <p:sp>
        <p:nvSpPr>
          <p:cNvPr id="72"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92F3-A35F-43B6-B569-0B052FDE3EB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vrat’a gör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uh Tufanı’ndan önce tek kavim, tek bir dil vardı. Nemrut, tanrılık iddiasıyla Babil Kulesi’ni gökyüzüne doğru yükseltince, tufan koptu...Babil’den kaçan insanlar, birbirlerini tanımaz bir halde dünyanın dört yanına dağıldılar. Her bir grup, bulunduğu yerde kendine has bir dille konuşmaya başladı; böylece, ilk dil farklılaşmaları ortaya çıkt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0095-00F3-48F4-98D8-C7C1C5BFB0A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lerin Çok Kaynaktan Çıkması (Polijenist) Görüşü</a:t>
            </a:r>
            <a:br>
              <a:rPr sz="3600"/>
            </a:br>
            <a:endParaRPr b="0" lang="en-US" sz="3600" spc="-1" strike="noStrike">
              <a:solidFill>
                <a:srgbClr val="000000"/>
              </a:solidFill>
              <a:latin typeface="Calibri"/>
            </a:endParaRPr>
          </a:p>
        </p:txBody>
      </p:sp>
      <p:sp>
        <p:nvSpPr>
          <p:cNvPr id="76" name=""/>
          <p:cNvSpPr txBox="1"/>
          <p:nvPr/>
        </p:nvSpPr>
        <p:spPr>
          <a:xfrm>
            <a:off x="971280" y="1413000"/>
            <a:ext cx="7497720" cy="4752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örüşle ilgili başlıca şu teoriler ileri sürül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7030a0"/>
                </a:solidFill>
                <a:latin typeface="Times New Roman"/>
                <a:ea typeface="Times New Roman"/>
              </a:rPr>
              <a:t>1. Yansıma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2. Ünlem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3. Psikolojik teor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4. İş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BB06B-9AFB-4D80-B1EE-FC2EB94B162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Yansıma Teorisi</a:t>
            </a:r>
            <a:br>
              <a:rPr sz="3600"/>
            </a:br>
            <a:endParaRPr b="0" lang="en-US" sz="3200" spc="-1" strike="noStrike">
              <a:solidFill>
                <a:srgbClr val="000000"/>
              </a:solidFill>
              <a:latin typeface="Calibri"/>
            </a:endParaRPr>
          </a:p>
        </p:txBody>
      </p:sp>
      <p:sp>
        <p:nvSpPr>
          <p:cNvPr id="7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deki ilk kelimeler tabiattaki sesleri taklitten do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4bacc6"/>
                </a:solidFill>
                <a:latin typeface="Times New Roman"/>
                <a:ea typeface="Times New Roman"/>
              </a:rPr>
              <a:t>“</a:t>
            </a:r>
            <a:r>
              <a:rPr b="0" lang="tr-TR" sz="2800" spc="-1" strike="noStrike">
                <a:solidFill>
                  <a:srgbClr val="4bacc6"/>
                </a:solidFill>
                <a:latin typeface="Times New Roman"/>
                <a:ea typeface="Times New Roman"/>
              </a:rPr>
              <a:t>Horul horul, çatır çatır, mışıl mışıl” </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940F1-1A96-423E-BD14-4499D2E6AF3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Ünlem Teorisi</a:t>
            </a:r>
            <a:endParaRPr b="0" lang="en-US" sz="3200" spc="-1" strike="noStrike">
              <a:solidFill>
                <a:srgbClr val="000000"/>
              </a:solidFill>
              <a:latin typeface="Calibri"/>
            </a:endParaRPr>
          </a:p>
        </p:txBody>
      </p:sp>
      <p:sp>
        <p:nvSpPr>
          <p:cNvPr id="8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nsanların karşılaştıkları hadiseler, varlıklar ve durumlar karşısında tepki verirken çıkardıkları </a:t>
            </a:r>
            <a:r>
              <a:rPr b="0" lang="tr-TR" sz="2800" spc="-1" strike="noStrike">
                <a:solidFill>
                  <a:srgbClr val="4bacc6"/>
                </a:solidFill>
                <a:latin typeface="Times New Roman"/>
                <a:ea typeface="Times New Roman"/>
              </a:rPr>
              <a:t>“ah!,aaa!,oh!,of!,ay!” </a:t>
            </a:r>
            <a:r>
              <a:rPr b="0" lang="tr-TR" sz="2800" spc="-1" strike="noStrike">
                <a:solidFill>
                  <a:srgbClr val="000000"/>
                </a:solidFill>
                <a:latin typeface="Times New Roman"/>
                <a:ea typeface="Times New Roman"/>
              </a:rPr>
              <a:t>gibi ünlemler dildeki ilk kelimeleri oluşturmuştur</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F4F0-8A01-4BDB-B5F2-C1F78576D89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851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DİLİN TANIMI VE NİTELİKLERİ</a:t>
            </a: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533160" y="1052280"/>
            <a:ext cx="7854840" cy="554508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Dil Kurumunun yayınladığı </a:t>
            </a:r>
            <a:r>
              <a:rPr b="0" i="1" lang="tr-TR" sz="2400" spc="-1" strike="noStrike">
                <a:solidFill>
                  <a:srgbClr val="000000"/>
                </a:solidFill>
                <a:latin typeface="Times New Roman"/>
                <a:ea typeface="Times New Roman"/>
              </a:rPr>
              <a:t>"Güncel Türkçe Sözlük"te </a:t>
            </a:r>
            <a:r>
              <a:rPr b="0" lang="tr-TR" sz="2400" spc="-1" strike="noStrike">
                <a:solidFill>
                  <a:srgbClr val="000000"/>
                </a:solidFill>
                <a:latin typeface="Times New Roman"/>
                <a:ea typeface="Times New Roman"/>
              </a:rPr>
              <a:t>dil kelimesi;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ız boşluğunda, tatmaya, yutkunmaya, sesleri boğumlamaya yarayan uzun, hareketli organ; tat alma organ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nsanların düşündüklerini ve duyduklarını bildirmek için kelimelerle  işaretlerle yaptıkları anlaşma, lis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 çağa, bir gruba, bir yazara özgü söz dağarcığı ve söz dizimi.</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elli durumlara, mesleklere, konulara özgü dil.</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şünce ve duyguları bildirmeye yarayan herhangi bir anlatım arac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zı üflemeli çalgılarda titreşerek ses çıkaran ince metal yaprak.</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Psikolojik Teori</a:t>
            </a:r>
            <a:endParaRPr b="0" lang="en-US" sz="3200" spc="-1" strike="noStrike">
              <a:solidFill>
                <a:srgbClr val="000000"/>
              </a:solidFill>
              <a:latin typeface="Calibri"/>
            </a:endParaRPr>
          </a:p>
        </p:txBody>
      </p:sp>
      <p:sp>
        <p:nvSpPr>
          <p:cNvPr id="85"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vücut dilinin, ağızda konuşma organlarından çıkan seslere yansımasından oluşmuştur. Yani ilk insanlar, tıpkı yeni konuşmaya başlayan bir çocukta olduğu gibi dileğini anlatmak için ilk önce yansıma sesler çıkarmaya başlamışt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242EA-49C1-4B55-99E0-FA4A2139B76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4. İş Teorisi</a:t>
            </a:r>
            <a:endParaRPr b="0" lang="en-US" sz="3200" spc="-1" strike="noStrike">
              <a:solidFill>
                <a:srgbClr val="000000"/>
              </a:solidFill>
              <a:latin typeface="Calibri"/>
            </a:endParaRPr>
          </a:p>
        </p:txBody>
      </p:sp>
      <p:sp>
        <p:nvSpPr>
          <p:cNvPr id="88"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insanların kazma, çakma, kırma gibi işleri yaparken çıkardıkları ritmik seslerden olu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007C-B034-46D2-8639-A5D2DF4F6E5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ddeci felsefeye göre dil, insanların ortaklaşa çalışmasından doğan bir kurumdur: Ortaklaşa çalışma içindeki insanlar, birbirleriyle iletişimde bulunmak için konuşma gereksinimi duydular. Başlangıçta yalnızca, çalışırken şu ya da bu işleme uygun düşen tek tek ünlemlerle konuşuluyordu. Daha sonra az gelişmiş olan gırtlak, telaffuz edilen sözleri çıkarmaya yetenekli bir organa dönüşmek üzere değişikliğe uğrad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8F4F9-26C6-4FBD-8914-EB773F9DAE2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rdinand de Saussure, dilin varlığını insanda bulunan dil yetisi diye adlandırdığı özel bir yeteneğe bağlar ve bu yetenek sonucunda geliştirilen bir sistem olan dilin hem şahsi hem de sosyal yönünün bulunduğunu ileri süre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99694"/>
                </a:solidFill>
                <a:latin typeface="Times New Roman"/>
                <a:ea typeface="Times New Roman"/>
              </a:rPr>
              <a:t>	</a:t>
            </a:r>
            <a:r>
              <a:rPr b="0" lang="tr-TR" sz="2800" spc="-1" strike="noStrike">
                <a:solidFill>
                  <a:srgbClr val="d99694"/>
                </a:solidFill>
                <a:latin typeface="Times New Roman"/>
                <a:ea typeface="Times New Roman"/>
              </a:rPr>
              <a:t>	</a:t>
            </a:r>
            <a:r>
              <a:rPr b="0" lang="tr-TR" sz="2800" spc="-1" strike="noStrike">
                <a:solidFill>
                  <a:srgbClr val="000000"/>
                </a:solidFill>
                <a:latin typeface="Times New Roman"/>
                <a:ea typeface="Times New Roman"/>
              </a:rPr>
              <a:t>«</a:t>
            </a:r>
            <a:r>
              <a:rPr b="0" i="1" lang="tr-TR" sz="2800" spc="-1" strike="noStrike">
                <a:solidFill>
                  <a:srgbClr val="000000"/>
                </a:solidFill>
                <a:latin typeface="Times New Roman"/>
                <a:ea typeface="Times New Roman"/>
              </a:rPr>
              <a:t>Dilin veya dillerin doğuşunu bulmak bir bakıma insan varlığının başlangıcını ortaya koymaktı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0C383-C0F9-4C05-933E-E3693E4754C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 KÜLTÜR İLİŞKİSİ</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ltü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ları hem diğer insanlarla ilişkilerinde, hem de tabiat karşısında uyumlu hale getirmeye çalışan değerler, normlar ve sosyal kontrol unsurlarının bütünüdü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ın ortaya koyduğu, içinde var olduğu her şey kültür kavramının içinde değerlendirili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rihi toplumsal gelişme süreci içinde yaratılan ve milletin fertlerini birbirine bağlayan dil, tarih, din, örf, adetler, ekonomi, ahlak anlayışı gibi maddî ve manevi değerlerin tümüdür. </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4E148-02AB-4DD5-9D8F-B8FFF9F2F78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ÜLTÜRÜ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ÖZELLİKLERİ</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ill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ürekli ve tarih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gündü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Canlı ve doğal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ü değiştirilemez.</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oplumun ortak malı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htiyaçları karşı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ilden nesle aktarılı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A325-28DD-4AEE-86D3-A54328EF9CD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illîlik: </a:t>
            </a:r>
            <a:r>
              <a:rPr b="0" lang="tr-TR" sz="2800" spc="-1" strike="noStrike">
                <a:solidFill>
                  <a:srgbClr val="000000"/>
                </a:solidFill>
                <a:latin typeface="Times New Roman"/>
                <a:ea typeface="Times New Roman"/>
              </a:rPr>
              <a:t>Her milletin onu başka milletlerden ayıran kendine has bir kültürü vardır. </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ürekli ve tarihîdir: </a:t>
            </a:r>
            <a:r>
              <a:rPr b="0" lang="tr-TR" sz="2800" spc="-1" strike="noStrike">
                <a:solidFill>
                  <a:srgbClr val="000000"/>
                </a:solidFill>
                <a:latin typeface="Times New Roman"/>
                <a:ea typeface="Times New Roman"/>
              </a:rPr>
              <a:t>Kültür , millet varlığının şekillenmeye başladığı andan itibaren kesintisiz devam eden bir sürecin ürünü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günlük: </a:t>
            </a:r>
            <a:r>
              <a:rPr b="0" lang="tr-TR" sz="2800" spc="-1" strike="noStrike">
                <a:solidFill>
                  <a:srgbClr val="000000"/>
                </a:solidFill>
                <a:latin typeface="Times New Roman"/>
                <a:ea typeface="Times New Roman"/>
              </a:rPr>
              <a:t>Milletlerin kendi anlayışlarının ve yaşama şartlarının ürünü olan kültürleri, özgün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anlılık ve doğallık: </a:t>
            </a:r>
            <a:r>
              <a:rPr b="0" lang="tr-TR" sz="2800" spc="-1" strike="noStrike">
                <a:solidFill>
                  <a:srgbClr val="000000"/>
                </a:solidFill>
                <a:latin typeface="Times New Roman"/>
                <a:ea typeface="Times New Roman"/>
              </a:rPr>
              <a:t>Kültür de tıpkı dil gibi canlı ve doğaldır. Tarihi süreçte doğal bir biçimde varlığını devam ettirirken zamana ve şartlara bağlı olarak değişir ve geliş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549360"/>
            <a:ext cx="8229600" cy="5975280"/>
          </a:xfrm>
          <a:prstGeom prst="rect">
            <a:avLst/>
          </a:prstGeom>
          <a:noFill/>
          <a:ln w="0">
            <a:noFill/>
          </a:ln>
        </p:spPr>
        <p:txBody>
          <a:bodyPr anchor="t">
            <a:normAutofit/>
          </a:bodyPr>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ü değiştirilemez: </a:t>
            </a:r>
            <a:r>
              <a:rPr b="0" lang="tr-TR" sz="2800" spc="-1" strike="noStrike">
                <a:solidFill>
                  <a:srgbClr val="000000"/>
                </a:solidFill>
                <a:latin typeface="Times New Roman"/>
                <a:ea typeface="Times New Roman"/>
              </a:rPr>
              <a:t>Günümüzde artık başka kültürlerden etkilenmemek mümkün değildir. Ancak bu değişim kültürün özünde değil, sadece bazı unsurlarındadır. </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oplumun ortak malıdır:</a:t>
            </a:r>
            <a:r>
              <a:rPr b="0" lang="tr-TR" sz="2800" spc="-1" strike="noStrike">
                <a:solidFill>
                  <a:srgbClr val="000000"/>
                </a:solidFill>
                <a:latin typeface="Times New Roman"/>
                <a:ea typeface="Times New Roman"/>
              </a:rPr>
              <a:t> Kültür, kişilerin üstüne taşan ve toplumu hükmü altına alan bir sistem olduğu için toplumun ortak malıdır ve kapsamlıdı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İhtiyaçları karşılar: </a:t>
            </a:r>
            <a:r>
              <a:rPr b="0" lang="tr-TR" sz="2800" spc="-1" strike="noStrike">
                <a:solidFill>
                  <a:srgbClr val="000000"/>
                </a:solidFill>
                <a:latin typeface="Times New Roman"/>
                <a:ea typeface="Times New Roman"/>
              </a:rPr>
              <a:t>İnsanları hem diğer insanlarla ilişkilerinde, hem de tabiat karşısında uyumlu hale getirir. Kişinin toplumla bütünleşmesine ve mutluluğu­na hizmet ed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Nesilden nesle aktarılır: </a:t>
            </a:r>
            <a:r>
              <a:rPr b="0" lang="tr-TR" sz="2800" spc="-1" strike="noStrike">
                <a:solidFill>
                  <a:srgbClr val="000000"/>
                </a:solidFill>
                <a:latin typeface="Times New Roman"/>
                <a:ea typeface="Times New Roman"/>
              </a:rPr>
              <a:t>Kültür kuşaktan kuşağa aktarılan bir sosyal mirastır.</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197000"/>
            <a:ext cx="82296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r taraftan kültürü beslerken diğer yandan kültürle beslenir ve kültürel değerleri sonraki nesillere aktarmada çok önemli bir işlevi yerine getir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ültürün temel unsuru ve taşıyıcısıdır. Çünkü insan ve toplum bir dilin imkânları içinde hisseder, algılar, düşünür, yorumlar, buna uygun davranışlar sergi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üşünceler, dille somut bir hale getirilir. Dile getirilemeyen söylenemeyen bir düşüncenin varlığından bahsetmek  de mümkün değildir.</a:t>
            </a:r>
            <a:endParaRPr b="0" lang="en-US" sz="2800" spc="-1" strike="noStrike">
              <a:solidFill>
                <a:srgbClr val="000000"/>
              </a:solidFill>
              <a:latin typeface="Calibri"/>
            </a:endParaRPr>
          </a:p>
        </p:txBody>
      </p:sp>
      <p:sp>
        <p:nvSpPr>
          <p:cNvPr id="10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AFC8-EF26-472B-BB13-004E364EA86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4360" y="549000"/>
            <a:ext cx="7991280" cy="583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milletin yaşadığı coğrafya, yaşayış biçimi, dünya görüşü ve hayat felsefesi… gibi bir çok bilgi ile ilgili ip ucunu o dilin söz varlığı içerisinde bulabiliriz. Dil, sadece kelimeler ve bunların kullanımından oluşan bir sistem değildir. Dil, bir kültüre ait düşünme biçiminin de simgesel ifadesi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ynı zamanda toplumdaki değişme ve gelişmenin yansıma alanı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tle bir toplumun kültürü, yapıcı ve yaratıcı başarısı diline yansır. Bu bakımdan dil, toplumun sosyo-kültürel aynasıdır. Toplumda hiçbir değişme ve gelişme yoktur ki diline yansımamış olsun. </a:t>
            </a:r>
            <a:endParaRPr b="0" lang="en-US" sz="2800" spc="-1" strike="noStrike">
              <a:solidFill>
                <a:srgbClr val="000000"/>
              </a:solidFill>
              <a:latin typeface="Calibri"/>
            </a:endParaRPr>
          </a:p>
        </p:txBody>
      </p:sp>
      <p:sp>
        <p:nvSpPr>
          <p:cNvPr id="10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770E-D346-4175-A63B-31FDE6A0CEB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620280"/>
            <a:ext cx="8142120" cy="5545080"/>
          </a:xfrm>
          <a:prstGeom prst="rect">
            <a:avLst/>
          </a:prstGeom>
          <a:noFill/>
          <a:ln w="0">
            <a:noFill/>
          </a:ln>
        </p:spPr>
        <p:txBody>
          <a:bodyPr anchor="t">
            <a:no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irçok aletin uzun, yassı ve çoğu hareketli bölümler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Makaraların ve bastikaların içine yerleştirilmiş olan, üzerinden geçen halatı istenilen yöne çevirmeye yarayan, çevresi oluklu, küçük döner tekerle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nahtar.</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enize uzanan dar ve alçak kara parçası, berzah.</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orguya çekilmek için yakalanan tutsa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üyükbaş hayvanların haşlanıp pişirildikten sonra yenebilen dil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yakkabı bağlarının ayağı rahatsız etmemesini sağlayan ve bağ altına rastlayan saya parçası,</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şeklinde tanımlanmaktadı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DE YABANCILAŞMA VE DİL KİRLENMESİ</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 doğrudan bir ilişki vardır. Kimi düşünürlere göre dil, yalnızca düşünmenin aracı değil, tersine düşünceyi yaratan bir etkinliktir. Dil ve düşünce birbirini etkiler ve yaratı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ki sıkı bağlantıyı dilin kuralları belirlemektedir. Bu kurallar yanlış kullanılırsa ve yanlış kullanım yaygınlaşırsa zamanla dil ile düşünce arsındaki sağlıklı bağ gevşer, dil anlatım gücünü kaybederek yozlaşmaya başlar. Cılız, yoz ve kirlenmiş bir dille düşünce üretmek de mümkün değildi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F3C88-3339-41C5-8D7B-A6DE380AF4D5}"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549360"/>
            <a:ext cx="7745400" cy="575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ürkçe, bugün özellikle Batı kaynaklı kelimelerin istilasına uğramakta,  yanlış , kaba, çirkin ifadeler yaygınlaşmakta,  argo kullanımı artmakta, kelime hazinesi gittikçe yoksullaşmaktadır. Bütün bunları dilde yabancılaşma ve dil kirlenmesi kapsamında değerlendirebiliriz.</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Dil bilincinden yoksun olmak, umursamazlık, dili kullanırken kuralına uygun kullanmamak, özenti dil kirliliğinin ve yabancılaşmanın önemli nedenlerindendi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elevizyon ekranları, radyo kanalları, diğer basın yayın organları, internet dili kirletme ve bu kirliliği yayarak geliştirmede  maalesef çok etkin bir rol oynamaktadırlar.</a:t>
            </a:r>
            <a:endParaRPr b="0" lang="en-US" sz="26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C7DCA-68B6-4F79-A0D7-1A425CB0A9EC}"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VE KÜLTÜR</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sermaye, yönetim, bilgi ve organizasyonun millîlikten çıkıp, tam anlamıyla birbirine bağımlı hale geldiği ekonomik ve siyasi yapılanma, dünya insanlarının tek bir dünya toplumunda bütünleştirilmesi süreci olarak tanımlanmakta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da dünya küçülüyor, yerel kültür ögeleri kayboluyor, din, dil ırk ayrımı yapmaksızın tüm insanlar her alanda daha çok birbirine benziyor adeta aynîleşiyor   /  tektipleşiyor. </a:t>
            </a:r>
            <a:endParaRPr b="0" lang="en-US" sz="2800" spc="-1" strike="noStrike">
              <a:solidFill>
                <a:srgbClr val="000000"/>
              </a:solidFill>
              <a:latin typeface="Calibri"/>
            </a:endParaRPr>
          </a:p>
        </p:txBody>
      </p:sp>
      <p:sp>
        <p:nvSpPr>
          <p:cNvPr id="11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D8CD-4839-4D3F-8592-4161B535705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4000" y="691920"/>
            <a:ext cx="8064360" cy="5761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aynîleşme, vatan, din, ahlâk, millet, milliyet, devlet, bayrak gibi kavram ve değerlerin içeriğini ve algılanma biçimini de değiştiriyor. Çünkü küreselleşme aşırı bir ferdiyetçiliği öngörmekte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yi reddederek olumsuz etkisinden kurtulmak mümkün olmadığına göre bunu lehimize nasıl çevirebiliriz?</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incisi, bilimsel ve teknolojik gelişmelere biz yön vererek…. Yani onları biz icat ederek.</a:t>
            </a:r>
            <a:endParaRPr b="0" lang="en-US" sz="32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ED71-5B55-41AC-9C78-6195F8E6029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kincisi, küreselleşme olgusunun yıpratmaya ve yok etmeye çalıştığı değerlerimize sahip çıkarak, onları yıkılmaz hale getirer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er iki hedef de toplumun hep birlikte bir kültür hamlesine girmesiyle gerçekleşebilecek durum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 olgusu ve ideolojisinden kimlik ve kişiliğimizi  korumak için, dil, din, milliyet gibi konularda daha dikkatli olmak zorundayız.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C5FA1-2739-4B0D-B64B-62AB143E8C5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71280" y="692280"/>
            <a:ext cx="749772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ütün bu tanımlardan yola çıkarak dili, şu şekilde tanımlayabiliriz:</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il, insanlar arasında anlaşmayı sağlayan </a:t>
            </a:r>
            <a:r>
              <a:rPr b="0" i="1" lang="tr-TR" sz="2800" spc="-1" strike="noStrike">
                <a:solidFill>
                  <a:srgbClr val="00b0f0"/>
                </a:solidFill>
                <a:latin typeface="Times New Roman"/>
                <a:ea typeface="Times New Roman"/>
              </a:rPr>
              <a:t>doğal bir araç</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endine has kanunları bulunan ve bu kanunlar çerçevesinde doğan, büyüyen, gelişen </a:t>
            </a:r>
            <a:r>
              <a:rPr b="0" i="1" lang="tr-TR" sz="2800" spc="-1" strike="noStrike">
                <a:solidFill>
                  <a:srgbClr val="00b0f0"/>
                </a:solidFill>
                <a:latin typeface="Times New Roman"/>
                <a:ea typeface="Times New Roman"/>
              </a:rPr>
              <a:t>canlı bir varlık</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ökü tarihin karanlık çağlarına dayanan </a:t>
            </a:r>
            <a:r>
              <a:rPr b="0" i="1" lang="tr-TR" sz="2800" spc="-1" strike="noStrike">
                <a:solidFill>
                  <a:srgbClr val="00b0f0"/>
                </a:solidFill>
                <a:latin typeface="Times New Roman"/>
                <a:ea typeface="Times New Roman"/>
              </a:rPr>
              <a:t>gizli anlaşmalar sistemi</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eslerden örülmüş </a:t>
            </a:r>
            <a:r>
              <a:rPr b="0" i="1" lang="tr-TR" sz="2800" spc="-1" strike="noStrike">
                <a:solidFill>
                  <a:srgbClr val="00b0f0"/>
                </a:solidFill>
                <a:latin typeface="Times New Roman"/>
                <a:ea typeface="Times New Roman"/>
              </a:rPr>
              <a:t>sosyal bir kurum</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işiler ve nesiller arasında </a:t>
            </a:r>
            <a:r>
              <a:rPr b="0" i="1" lang="tr-TR" sz="2800" spc="-1" strike="noStrike">
                <a:solidFill>
                  <a:srgbClr val="00b0f0"/>
                </a:solidFill>
                <a:latin typeface="Times New Roman"/>
                <a:ea typeface="Times New Roman"/>
              </a:rPr>
              <a:t>kültür taşıyıcısı</a:t>
            </a:r>
            <a:r>
              <a:rPr b="0" i="1" lang="tr-TR" sz="2800" spc="-1" strike="noStrike">
                <a:solidFill>
                  <a:srgbClr val="000000"/>
                </a:solidFill>
                <a:latin typeface="Times New Roman"/>
                <a:ea typeface="Times New Roman"/>
              </a:rPr>
              <a:t>dır.</a:t>
            </a:r>
            <a:endParaRPr b="0" lang="en-US" sz="2800" spc="-1" strike="noStrike">
              <a:solidFill>
                <a:srgbClr val="000000"/>
              </a:solidFill>
              <a:latin typeface="Calibri"/>
            </a:endParaRPr>
          </a:p>
        </p:txBody>
      </p:sp>
      <p:sp>
        <p:nvSpPr>
          <p:cNvPr id="5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32027-7B3F-425D-B9E9-8EF28A58DB51}"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İN NİTELİKLERİ</a:t>
            </a:r>
            <a:endParaRPr b="0" lang="en-US" sz="3600" spc="-1" strike="noStrike">
              <a:solidFill>
                <a:srgbClr val="000000"/>
              </a:solidFill>
              <a:latin typeface="Calibri"/>
            </a:endParaRPr>
          </a:p>
        </p:txBody>
      </p:sp>
      <p:sp>
        <p:nvSpPr>
          <p:cNvPr id="55" name=""/>
          <p:cNvSpPr txBox="1"/>
          <p:nvPr/>
        </p:nvSpPr>
        <p:spPr>
          <a:xfrm>
            <a:off x="826920" y="1267920"/>
            <a:ext cx="7777440" cy="4969080"/>
          </a:xfrm>
          <a:prstGeom prst="rect">
            <a:avLst/>
          </a:prstGeom>
          <a:noFill/>
          <a:ln w="0">
            <a:noFill/>
          </a:ln>
        </p:spPr>
        <p:txBody>
          <a:bodyPr anchor="t">
            <a:normAutofit/>
          </a:bodyPr>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c00000"/>
                </a:solidFill>
                <a:latin typeface="Times New Roman"/>
                <a:ea typeface="Times New Roman"/>
              </a:rPr>
              <a:t>Dil, doğal bir iletişim aracıdır</a:t>
            </a:r>
            <a:r>
              <a:rPr b="0" lang="tr-TR" sz="3000" spc="-1" strike="noStrike">
                <a:solidFill>
                  <a:srgbClr val="000000"/>
                </a:solidFill>
                <a:latin typeface="Times New Roman"/>
                <a:ea typeface="Times New Roman"/>
              </a:rPr>
              <a:t>. Dil, insanların kendi aralarında ve toplumla anlaşmasını sağlayan doğal bir iletişim aracıdır.</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Doğal bir varlık olan dilin kendine özgü bir takım </a:t>
            </a:r>
            <a:r>
              <a:rPr b="0" lang="tr-TR" sz="3000" spc="-1" strike="noStrike">
                <a:solidFill>
                  <a:srgbClr val="c00000"/>
                </a:solidFill>
                <a:latin typeface="Times New Roman"/>
                <a:ea typeface="Times New Roman"/>
              </a:rPr>
              <a:t>kuralları vardır.</a:t>
            </a:r>
            <a:endParaRPr b="0" lang="en-US" sz="3000" spc="-1" strike="noStrike">
              <a:solidFill>
                <a:srgbClr val="000000"/>
              </a:solidFill>
              <a:latin typeface="Calibri"/>
            </a:endParaRPr>
          </a:p>
          <a:p>
            <a:pPr marL="423720" indent="-34272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00000"/>
                </a:solidFill>
                <a:latin typeface="Times New Roman"/>
                <a:ea typeface="Times New Roman"/>
              </a:rPr>
              <a:t>Dil, canlı bir varlıktır</a:t>
            </a:r>
            <a:r>
              <a:rPr b="0" lang="tr-TR" sz="3000" spc="-1" strike="noStrike">
                <a:solidFill>
                  <a:srgbClr val="000000"/>
                </a:solidFill>
                <a:latin typeface="Times New Roman"/>
                <a:ea typeface="Times New Roman"/>
              </a:rPr>
              <a:t>. Hiçbir dil ilk halini korumaz, kendi yasalarına aykırı zorlamaları benimsemez, ancak kendi bünyesine uygun düşen normal değiştirmeleri kabul eder. Yapısı, kişilerin ve toplumların istedikleri şekilde değiştirilemez.</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01182-26C9-4C27-A0F1-165F4FBA379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331640" y="692280"/>
            <a:ext cx="7497720" cy="5473440"/>
          </a:xfrm>
          <a:prstGeom prst="rect">
            <a:avLst/>
          </a:prstGeom>
          <a:noFill/>
          <a:ln w="0">
            <a:noFill/>
          </a:ln>
        </p:spPr>
        <p:txBody>
          <a:bodyPr anchor="t">
            <a:normAutofit/>
          </a:bodyPr>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ökü tarihin karanlık çağlarına dayanan </a:t>
            </a:r>
            <a:r>
              <a:rPr b="0" lang="tr-TR" sz="2800" spc="-1" strike="noStrike">
                <a:solidFill>
                  <a:srgbClr val="c00000"/>
                </a:solidFill>
                <a:latin typeface="Times New Roman"/>
                <a:ea typeface="Times New Roman"/>
              </a:rPr>
              <a:t>gizli anlaşmalar sistemidir. </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it olduğu </a:t>
            </a:r>
            <a:r>
              <a:rPr b="0" lang="tr-TR" sz="2800" spc="-1" strike="noStrike">
                <a:solidFill>
                  <a:srgbClr val="c00000"/>
                </a:solidFill>
                <a:latin typeface="Times New Roman"/>
                <a:ea typeface="Times New Roman"/>
              </a:rPr>
              <a:t>milletin ortak malıdır</a:t>
            </a:r>
            <a:r>
              <a:rPr b="0" lang="tr-TR" sz="2800" spc="-1" strike="noStrike">
                <a:solidFill>
                  <a:srgbClr val="000000"/>
                </a:solidFill>
                <a:latin typeface="Times New Roman"/>
                <a:ea typeface="Times New Roman"/>
              </a:rPr>
              <a:t>. Kişiler üstünde bütün bir toplumun mal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t>
            </a:r>
            <a:r>
              <a:rPr b="0" lang="tr-TR" sz="2800" spc="-1" strike="noStrike">
                <a:solidFill>
                  <a:srgbClr val="c00000"/>
                </a:solidFill>
                <a:latin typeface="Times New Roman"/>
                <a:ea typeface="Times New Roman"/>
              </a:rPr>
              <a:t>sosyal bir varlıktır</a:t>
            </a:r>
            <a:r>
              <a:rPr b="0" lang="tr-TR" sz="2800" spc="-1" strike="noStrike">
                <a:solidFill>
                  <a:srgbClr val="000000"/>
                </a:solidFill>
                <a:latin typeface="Times New Roman"/>
                <a:ea typeface="Times New Roman"/>
              </a:rPr>
              <a:t>. Aynı zamanda sosyalleşme arac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kültürler arasında bir </a:t>
            </a:r>
            <a:r>
              <a:rPr b="0" lang="tr-TR" sz="2800" spc="-1" strike="noStrike">
                <a:solidFill>
                  <a:srgbClr val="c00000"/>
                </a:solidFill>
                <a:latin typeface="Times New Roman"/>
                <a:ea typeface="Times New Roman"/>
              </a:rPr>
              <a:t>kültür taşıyıcısıdır.</a:t>
            </a:r>
            <a:endParaRPr b="0" lang="en-US" sz="2800" spc="-1" strike="noStrike">
              <a:solidFill>
                <a:srgbClr val="000000"/>
              </a:solidFill>
              <a:latin typeface="Calibri"/>
            </a:endParaRPr>
          </a:p>
        </p:txBody>
      </p:sp>
      <p:sp>
        <p:nvSpPr>
          <p:cNvPr id="5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0AD0-44D7-4099-8368-CC4AFFB6C40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160" y="620640"/>
            <a:ext cx="7854840" cy="568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 bir araçtır. Araç olarak işlevleri anlaşma ve iletişimi sağlamak, kültürü taşımak ve insanları sosyal toplumun bir üyesi haline getirmektir. İnsanı insan yapan bütün etkinliklerin, başarıların kökeninde dil vardır. Dil olmasa bilim olmazdı; çünkü doğa olaylarını belli kurallara, ilkelere, yasalara göre açıklamak dilsiz gerçekleşemezdi. Dil olmasa din olmazdı; çünkü kişinin mutlak varlıkla ilişkiler kurması dil sayesind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160" y="549360"/>
            <a:ext cx="7854840" cy="57592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oğal bir varlık olan dilin kendine özgü bir takım kuralları vardır. Bu kurallar dilin yapısından ve eğilimlerinden doğmuş olup dil bütün değişim, gelişim ve üretimini buna göre gerçekleştirir. Yeni ihtiyaçlara cevap verebilmek için gerektiğinde bir dilde yeni kelimeler türetilebilir; ses, biçim ve söz dizimi kalıpları da geliştirilebilir. Dildeki değişme süreklidir. Zamana, coğrafyaya ve dillere göre farklılıklar gösterir. Değişim kimi dillerde hızlı, kimi dillerde ise yavaş olur. Toplumsal, siyasal ve kültürel olaylar ile teknolojik gelişmeler dilin değişim hızını ve boyutunu etki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620280"/>
            <a:ext cx="814212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kökü tarihin karanlık çağlarına dayanan gizli anlaşmalar sistemidir. Canlı ve cansız varlıkları, kavramları, hareketleri karşılayan kelimeler ve kelimelerin birbiriyle ilişkileri üzerinde bir toplumun, bir kavmin, bir milletin bütün kişileri gizli anlaşmalar, gizli sözleşmeler yapmış durumdadır. Bu nedenle toplumun bütün kişileri bir varlığı hep aynı kelime ile karşılar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URAK</cp:lastModifiedBy>
  <dcterms:modified xsi:type="dcterms:W3CDTF">2014-10-02T06:42:19Z</dcterms:modified>
  <cp:revision>75</cp:revision>
  <dc:subject/>
  <dc:title>DİLİN TANIMI</dc:title>
</cp:coreProperties>
</file>